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1E74-C9C5-4418-868B-64BCF6599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AB77-D3AD-41CE-8B59-429A001F5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52E1-6329-4458-B418-FD4E8E828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C87E-9373-4724-B0C9-70C7CD837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8465-351A-4862-8D8D-EE65B5890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1060-7715-4279-A858-014E1D427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9C43-8BBD-4854-B353-F0A5508F6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FFC8-D4FE-4375-8EAD-4C2B17978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030-077C-4FB9-84F8-9F8E3C92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9C4-F169-407E-B508-C5E44F03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C20-0A47-4DA5-8ADE-D2035CD3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710-628E-480D-924A-DD7AE324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FF27-84BC-4457-A7DD-4C45C1D0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418C-2E7B-477D-B772-6DC5DB91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8577-4415-4721-AC09-E17F622E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954A-BA10-4FEF-AC9A-B06E65B3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98FF-1D4A-4DF8-9F30-1243D66A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9BE2-F64E-4875-98D6-37DB5C82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EB24-23B7-4ED7-8C39-B5617AF6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027-1FF0-48EF-81EE-A6C91C40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F8E1-243E-4EBB-B2DD-DF717A8C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D3BF-3225-468A-8DD3-4A679FFC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247A-47D4-405A-B3CF-E3FF566E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8272-0694-42D6-AC9F-A54B48AC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2A5C-CBA5-46D6-A36C-D91B0931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319-D566-4357-B2F9-54E8E89F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430-556E-4D62-91F2-C5D52898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66C-3228-4E0B-AF8F-D0B3D05C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EA9-0233-46CF-92DC-B5FFAAC4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DEE-DAEE-4422-97DE-A83F7CFC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F06-7601-4E4F-A066-AFBEA7BD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E0B-FE1D-498E-B4C1-39831218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29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06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07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Bishkek  February 2013.     ISO/IEC 17025:2005      Erzsébet Párká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6F54-55EE-464D-99FE-A0501514CA01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1160"/>
              <a:chOff x="7848720" y="-360"/>
              <a:chExt cx="1295280" cy="63111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83120"/>
                <a:chOff x="8381880" y="-360"/>
                <a:chExt cx="762120" cy="22831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-360"/>
                  <a:ext cx="279360" cy="275400"/>
                  <a:chOff x="871056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-360"/>
                    <a:ext cx="279360" cy="275400"/>
                    <a:chOff x="871056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92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1800"/>
                      <a:ext cx="14076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46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6984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724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72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20808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832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3280"/>
              <a:ext cx="1190520" cy="19350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2880"/>
              <a:ext cx="1219320" cy="19947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7800"/>
              <a:ext cx="1231920" cy="4026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6720"/>
              <a:ext cx="979560" cy="217872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3160"/>
              <a:ext cx="914400" cy="503532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9000"/>
              <a:ext cx="909720" cy="30636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7280"/>
              <a:ext cx="576360" cy="3344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8720"/>
              <a:ext cx="300240" cy="33444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880"/>
              <a:ext cx="11653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2960" y="3324600"/>
              <a:ext cx="6840360" cy="225360"/>
            </a:xfrm>
            <a:custGeom>
              <a:avLst/>
              <a:gdLst>
                <a:gd name="textAreaLeft" fmla="*/ 666360 w 6840360"/>
                <a:gd name="textAreaRight" fmla="*/ 6174000 w 68403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Bishkek  February 2013.     ISO/IEC 17025:2005      Erzsébet Párká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4365-387F-4F3F-9C22-F809B43F24DF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4772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Кыргызской Республике в области обеспечения единства измерений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Астана, октябрь 2015г.</a:t>
            </a:r>
            <a:endParaRPr b="0" lang="en-US" sz="12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768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Кыргызской Республике  в области обеспечения единства измерений </a:t>
            </a:r>
            <a:br>
              <a:rPr sz="1400"/>
            </a:br>
            <a:endParaRPr b="0" lang="en-US" sz="1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м КР «Об обеспечении единства измерений» от 9 июля 2014 г. ЦСМ при Министерстве экономики  определен как Национальный орган по метрологии, что дает возможность решать задачи национального уров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и из основных направлений деятельности  ЦСМ являются, создание национальной эталонной базы и обеспечение ее функционирования, и проведение метрологического контроля средств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2014 году в ЦСМ проведен метрологический контроль 375 183 ед.  средств измерений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ерка – 372 485 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768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Кыргызской Республике  в области обеспечения единства измерений </a:t>
            </a:r>
            <a:br>
              <a:rPr sz="1400"/>
            </a:br>
            <a:endParaRPr b="0" lang="en-US" sz="1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либровка – 1 547 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ттестация испытательного оборудования- 874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тверждение типа – 22 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изнание утвержденного типа – 87 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логическая аттестация – 168 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y-KG" sz="2400" spc="-1" strike="noStrike">
                <a:solidFill>
                  <a:srgbClr val="000000"/>
                </a:solidFill>
                <a:latin typeface="Arial"/>
              </a:rPr>
              <a:t>В эталонных лабораториях ЦС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y-KG" sz="2400" spc="-1" strike="noStrike">
                <a:solidFill>
                  <a:srgbClr val="000000"/>
                </a:solidFill>
                <a:latin typeface="Arial"/>
              </a:rPr>
              <a:t>- 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работаны  и внедрены калибровочные услуги электромеханических, </a:t>
            </a:r>
            <a:r>
              <a:rPr b="0" lang="ky-KG" sz="2400" spc="-1" strike="noStrike">
                <a:solidFill>
                  <a:srgbClr val="000000"/>
                </a:solidFill>
                <a:latin typeface="Arial"/>
              </a:rPr>
              <a:t>аналоговых и цифровых</a:t>
            </a:r>
            <a:r>
              <a:rPr b="1" lang="ky-K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ометров,  объёма гравиметрическим методом, </a:t>
            </a:r>
            <a:r>
              <a:rPr b="0" lang="ky-KG" sz="2400" spc="-1" strike="noStrike">
                <a:solidFill>
                  <a:srgbClr val="000000"/>
                </a:solidFill>
                <a:latin typeface="Arial"/>
              </a:rPr>
              <a:t>мерной посуды и дозаторов пипеточных</a:t>
            </a:r>
            <a:r>
              <a:rPr b="1" lang="ky-KG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Н метров и кондуктометров, электронных и механических аналитических ве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768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Кыргызской Республике  в области обеспечения единства измерений </a:t>
            </a:r>
            <a:br>
              <a:rPr sz="1400"/>
            </a:br>
            <a:endParaRPr b="0" lang="en-US" sz="1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р</a:t>
            </a:r>
            <a:r>
              <a:rPr b="0" lang="ky-KG" sz="2400" spc="-1" strike="noStrike">
                <a:solidFill>
                  <a:srgbClr val="000000"/>
                </a:solidFill>
                <a:latin typeface="Arial"/>
              </a:rPr>
              <a:t>азработана внутренняя документация, описывающая все требования к проводимым работам  в эталонных лабораториях УНЭ в комплекте Системы менеджмента</a:t>
            </a:r>
            <a:r>
              <a:rPr b="1" lang="ky-K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y-KG" sz="2400" spc="-1" strike="noStrike">
                <a:solidFill>
                  <a:srgbClr val="000000"/>
                </a:solidFill>
                <a:latin typeface="Arial"/>
              </a:rPr>
              <a:t>качества (Руководство по качеству (РК), Документированные процедуры (Д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кущем году в эталонных лабораториях проведена предварительная оценка на соответствие основным требованиям ИСО/МЭК 17025 с участием эксперта из Германии в рамках проекта Р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ы ЦСМ в качестве локальных экспертов совместно с экспертами PTB приняли участие в работе по внедрению калибровочных услуг в соответствии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768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Кыргызской Республике  в области обеспечения единства измерений </a:t>
            </a:r>
            <a:br>
              <a:rPr sz="1400"/>
            </a:br>
            <a:endParaRPr b="0" lang="en-US" sz="1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ми методами в Таджикстандарте (Национальный метрологический орган Таджикистана) с целью передачи опыта внедрения калибровочных услуг в соответствии с ИСО/МЭК 170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й метрологический орган участвует в проведении работ по линии КОО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м метрологическим органом организуются и проводятся  обучения специалистов метрологов на базе Центра подготовки и переквалификации кадров при ЦСМ по утвержденным програм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в соответствии с 104-часовой программой обучения специа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768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Кыргызской Республике  в области обеспечения единства измерений </a:t>
            </a:r>
            <a:br>
              <a:rPr sz="1400"/>
            </a:br>
            <a:endParaRPr b="0" lang="en-US" sz="1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логических служб юридических лиц на тему:  “Поверка и калибровка средств измерений” специалист национального органа аккредитации выступил с 3-часовой презентацией: «Аккредитация поверочных и калибровочных лабораторий» с представлением отдельных критериев аккредитации для поверочных и калибровочных лабораторий, установленных в международных стандартах,  таких как ИСО/МЭК 17020 и ИСО/МЭК 17025 (соответственно) и важность и обязательность применения политик и процедур Международного сотрудничества по аккредитации лабораторий (ILAC), национального органа по аккредитации Кыргызстана, относящихся к деятельности калибровочн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768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Кыргызской Республике  в области обеспечения единства измерений </a:t>
            </a:r>
            <a:br>
              <a:rPr sz="1400"/>
            </a:br>
            <a:endParaRPr b="0" lang="en-US" sz="1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очных лабораторий, включая политик по  прослеживаемости и неопределенности измерений,  проверочным действиям (сличениям по качеству) и  др., используемых  в процессе подтверждения технической их компетент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3565440" y="228600"/>
            <a:ext cx="1024200" cy="731880"/>
          </a:xfrm>
          <a:prstGeom prst="rect">
            <a:avLst/>
          </a:prstGeom>
          <a:ln w="0">
            <a:noFill/>
          </a:ln>
        </p:spPr>
      </p:pic>
      <p:sp>
        <p:nvSpPr>
          <p:cNvPr id="213" name="Номер слайда 3"/>
          <p:cNvSpPr/>
          <p:nvPr/>
        </p:nvSpPr>
        <p:spPr>
          <a:xfrm>
            <a:off x="586728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CCF7-A6AA-4C27-9CE9-FC6E87BA37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2970360" y="3809880"/>
            <a:ext cx="2914560" cy="17272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1457640" y="2743200"/>
            <a:ext cx="56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838080" y="115560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Kyr"/>
              </a:rPr>
              <a:t>К</a:t>
            </a:r>
            <a:r>
              <a:rPr b="1" lang="ky-KG" sz="3200" spc="-1" strike="noStrike">
                <a:solidFill>
                  <a:srgbClr val="000000"/>
                </a:solidFill>
                <a:latin typeface="ArialKyr"/>
              </a:rPr>
              <a:t>өңү</a:t>
            </a:r>
            <a:r>
              <a:rPr b="1" lang="ru-RU" sz="3200" spc="-1" strike="noStrike">
                <a:solidFill>
                  <a:srgbClr val="000000"/>
                </a:solidFill>
                <a:latin typeface="ArialKyr"/>
              </a:rPr>
              <a:t>л  бурганыңыздарга рахм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ижний колонтитул 2"/>
          <p:cNvSpPr/>
          <p:nvPr/>
        </p:nvSpPr>
        <p:spPr>
          <a:xfrm>
            <a:off x="2979720" y="6021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стана, октябрь 2015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55:01Z</dcterms:created>
  <dc:creator>Parkany Mihaly</dc:creator>
  <dc:description/>
  <dc:language>en-US</dc:language>
  <cp:lastModifiedBy>User</cp:lastModifiedBy>
  <dcterms:modified xsi:type="dcterms:W3CDTF">2015-10-27T04:55:39Z</dcterms:modified>
  <cp:revision>346</cp:revision>
  <dc:subject/>
  <dc:title>Курс семинара для специалистов лаборатории по качеству « Международный стандарт ИСО/МЭК 17025 (ISO/IEC 17025): Общие требования к компетентности испытательных и поверочных лабораторий» проведенного Международным Торговым Центром (UNCTAD/WTO) как часть проекта «Продвижение Торговли в Казахстане и  в Кыргызии»  30 марта 2005 года, г.Алматы и г. Бишкек Элизабет Паркань Марта Паполци Инженер химик  Инженер механик Консультанты по ИСО/МЭК 17025:199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